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9AD-C2CF-4A94-88C5-AE6B295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D19-06BA-4954-9971-CDA24267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B889-FC87-4A45-8ADB-9E50800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1C0FE-85CF-48CB-BA04-2FFBC73E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CD036-C9D7-4D1D-AE3D-AE1F5D7A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FDF12-4449-4A19-89C8-4ED298F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C6145-B5F8-47F9-A08D-0045D92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FFB2-FF06-47FC-9481-58680E9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4683-7DFA-4358-8AE2-1D681226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53D5-001C-445E-BB58-41976F55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2CA37-B228-400D-94A9-13C97515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55F03-37CA-438B-9903-2810B3AB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8F2-12C7-49C3-84AD-7ADED91A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59475-74AC-47FB-8EC9-134FA702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3739F-10C5-46E9-9688-078B3219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3917D-BAE4-46D4-9F03-C6D3823D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E14BC-AD12-4F9B-BEB6-E48E01C6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9DCC4-7DEA-4EEE-9169-3427514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16DF-2CFF-4809-93D6-3D459919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7DA52-383F-4C56-85B3-8B45806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D4E3C-BD5E-4B84-9B16-C9D41D3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2ABC7-8408-4D64-9647-DB96A582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2A01D-3ED9-401C-978F-9BAD0691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265-17DA-497A-A515-3ACDBE80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16119-C799-4636-AFB8-42D6E344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81B2-9BE2-4FF6-B2BF-19548918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7AE4-BAC6-4068-9E20-EC56A07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67834-0DB9-47ED-8028-3E92C549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E26F9-D9D3-47A6-B94F-646D826A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A4219-A300-4CA3-BD13-C5DC94F2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58CA2-3B24-4130-ACE9-8573F4D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576A-58A3-4073-91EE-323C2E6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BD67-F1BF-4777-A539-8644857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09FD1-9D47-4BAF-97F2-6DED402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515C-1DAD-4F3B-A1C1-7DC3F2A7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995E-6DC1-4517-838F-5915CB95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1DF06-DEE3-4A60-9A12-F9232268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45E82-7D09-4717-A6D6-D2386380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AC81D-855E-441B-A3FC-CCB4A9AB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94681-CE06-4423-AEC9-E31DC2C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0733E-5CA3-442F-9F6F-6BEAB050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AD372-4FE1-45BC-96F5-9B4AF02D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0B304-2E0D-4802-9D59-3934E40F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174AB-C524-428B-8B4B-347707B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A7563-CD07-4A1F-A6F4-4DE427F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8865-2F4D-4EAE-9A74-A9F98DCC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BFD5-9673-4767-97DC-49A4920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31424-16C3-4593-A96C-AA87026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66E64-7D08-4750-9787-28D5C61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2DB43-F9B4-461A-A213-E3E37325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317B8-11DB-47E6-985A-120441D9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B0E7A-F9FF-4DDA-8AAC-484C3DEA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3D9D8-9BE3-499C-9B1F-DEE7416C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1B81B-8F1C-4D7F-A23A-3DF9293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5446D-0A9C-4F05-9920-195B2271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E933C-10B1-4B31-B120-3C32A98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DD6-5D8D-4EC8-8F37-AA95641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52E01-22B3-49AD-AA4F-93703B72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282AA-DF99-4616-99D1-1DCF7E5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D587E-CFD9-490D-A4EA-39A0EC9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42D30-81CC-47C0-B83B-3B044A9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A4B72-A21F-48AF-B1FC-46E36396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7297F-302C-4110-8C11-112E9281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22D6D-04A7-4EBA-B288-18B1104A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E2516-65E1-40A6-BA4D-8B4286D3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34440-8FBD-4C71-BE0F-EF17BED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A5CEF-63A9-4810-94AA-FA1240AC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0F82-1F37-4444-960D-07B059F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C1EF2-B1E3-4400-ADC5-4A98162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D5ACE-F744-405A-AEA3-3A95D0BC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C3903-4FE4-4BC0-A6A7-675B277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7C361-668D-42D0-A93F-E725B1FD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5FF38-1D4C-4CEF-A2CA-A2F90FF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4D15F-93FF-4B60-9D1B-7D31415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F480E-C0D0-40FA-AD58-7FE314C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CD4D7-6FC8-4A9C-9228-0FF5337C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73625-43F6-4759-B4BE-5D659F4E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AE91F-7E92-4A24-864E-7E47398D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0D15-D83B-47C6-B21E-B401A43F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565C5-F1C5-4613-B680-5DB37AA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583DD-499F-45E8-99AC-6E17C50E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FEAD5-D247-4AF5-9DF9-F7620BDA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9C938-56B2-4CF7-8CF4-FB82303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D5832-5DA6-4131-8914-2A3F284B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73455-4746-4DAC-9AF3-A39224A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B9543-E8AA-4B2D-8F45-3CF67A3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8452F-01FB-47FB-968C-39608B0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DC791-8F73-4BC8-BFF8-BFD9CD22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58A88-A920-4044-B201-55BC1346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905-C9C3-40F0-8B3A-7683A9B6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0240E-AA11-4CC3-B1D2-7B262F61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0CACD-5F9C-4439-B6B0-9DE7746A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A8C12-96BF-4AF6-9178-60D81931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297F0-1F6C-40E7-8A91-01040C93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BBB87-0690-4FD9-8C39-CDFE7799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3F31C-CB38-4481-B31D-7FE07B1C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0A7A8-6A02-421E-B00A-55CA923F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384BD-A16B-4FA3-B1EF-2CE5739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F7F96-88AC-468E-849B-B46C901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87249-8BB4-4058-8B3A-CE233D0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B163-A98B-4E74-B3B2-2C259E9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FD0B8-E2F5-4727-8215-5BAD844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B360D-C0A5-4DF5-A9DF-AB99FF7F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D2E59-A4EE-4F76-85FD-D087316F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2A942-CCE5-4922-A911-C8714EE6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14BA3-47DE-4922-A6FD-C9528D30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C8D34-3028-4633-89AD-11A1E244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2F5F1-3A27-4300-B72C-F2EC6772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C6F30-C90E-41FA-8591-6D36F94D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70E37-5213-4BCD-866C-29E7AEA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CB974-BCA3-42EE-8A7A-F2543A5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9A1-6CF6-4E82-81F8-48B866F3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0F63-92E4-4326-B89B-D66030E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B82DD-3C7B-4376-9C45-8C25D3A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3650C-8E94-4631-8571-D53C5B68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E8762-B38C-410B-8219-70BB9A70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1468E-73C8-4949-AE8B-35B42F09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03886-EBA1-4DC3-BE6B-F32D5097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3B77A-74A8-481A-A7C3-8DF359D5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40FEE-E9FA-4942-9D43-B9481AEB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1462D-181F-4CDE-86FA-70BF047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9DC6A-6867-468A-8413-5160F1E0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BC33D-0A51-4269-AA62-DEE806C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37AF-8121-4328-BDD6-3481ABC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1FD2A-6CAD-4FF5-A200-4181DC2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09982-83D9-49EA-9FC2-A0A23AD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0EFBD-DDF4-4A5B-91E6-3187CFB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0BBA6-CDDE-4E2A-A980-011D4CC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8FC8D-1EE1-4778-804E-7E318C8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5CE1B-0F4C-464C-AA32-C40843DD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53D8F-41A5-4204-A49D-12EAA838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EE240-18B7-40BA-BD97-F6BEBDFF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DEA2D-2AB4-4B31-A98E-442B091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4A386-ED83-4F69-83C6-FD0A0A0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6699-3C2F-4395-B135-C3B9BA9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D3E40-0A56-46CB-BF39-AE129BF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9186D-FA75-4B80-8BA8-A0D5ABF7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A1AFB-E790-454B-AF3F-19154F4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5DD20-5B46-42A9-B502-07CDCC3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C5587-4753-48DB-8926-489B6A2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0AED2-5780-4D26-BE9E-8A45609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9E59D-535C-4C41-8C14-B34F48B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084FA-F198-4927-84AC-3E90AFCB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83434-AE2D-4B0A-8F92-0C53B01A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048E3-E75C-4D10-BCBB-3985E719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D377-EA84-4606-9E95-A39699DC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45FED-0091-4D0F-A9A8-D215D86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06CCD-D738-4D8F-B5A3-14080FD9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49F1F-9153-4077-A044-9E967DE3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5513C-2ED6-4462-BFC3-8B67A925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4290A-5BC3-4F8C-A6B5-6865821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58C0F-22AD-41D8-8BE4-7BC32526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C81CC-9F82-4840-8188-25D9F09A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E04BF-1D73-488C-AFDE-8F56590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1637E-AE3C-4E96-A869-90F7A785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632F3-5A45-43DB-B674-0CFCFAAE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C81A-DCD3-4BF6-B811-BAA09AF9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584EFB-EB64-4F0C-ABD8-3C697BD4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871026-DE7A-4AD9-98D5-96B3137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1C520-0EC7-40A4-9197-9CA6D4FD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AD9F3-366A-49D2-A05D-06331D1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2BBB6-63DC-423C-86BC-DE2C85BD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6EF5F-BD52-49B2-9F36-8932D0DC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EA810-A734-475C-8059-FD44D844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FF9C7-E8E2-4034-8E77-6A47840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06B49-A8B7-4288-B91F-80BD83AC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5A767-6A34-477D-8E36-F39BBF7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9512-6FFF-4280-BE9D-CA1DF342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FD5F7-5953-47CD-955A-8204B40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9ADDA-BE6B-4695-998C-F42877E5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0D4DD7-8317-4A06-8073-BB3A0688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7464-9743-415B-AFB9-F69E45F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A8A3-2BD2-4E27-9B63-EE660CE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5E46-1FF7-4A24-B10D-B10E2BB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0367-3E3D-495E-93CB-28961389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F6E-3B69-4C55-93C3-782C28B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833A-EE69-48C9-A33E-530FCA5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9160-A4F6-4C7F-8B0E-2C0F5BDD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FC24-8CBF-4673-90C0-DFF30A8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CE99-11CB-4DE9-99EC-E44024E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F530-8435-4A74-AEC5-27B14BC6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153C-B451-4E02-B08B-2469EC95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575D-D0B2-47DD-9BB3-590B1925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1EAA-4A33-4132-913A-B7B0ED22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CA67-4860-4E1A-A614-27299382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C82B-1456-4846-9513-622E66C2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435-690D-4DDE-B2E1-8516229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C7DF-E353-4F03-BE74-4C0054B9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76D2-8238-43E6-91A2-43DAB065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846A-D1C9-4E1C-AB65-A3C27B4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384E-F920-48D2-8D36-8859629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47EF-BA6E-4B62-A645-FE924C41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E1D9-BE27-4F92-A298-ACD5CFF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5261-8D28-4507-945B-C908FB5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449E-C6C5-494C-91A9-E959DBFB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F06F-0ADC-4910-BBB2-4C83C331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8301-41E0-4507-8B33-1A0F8A3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AA9-EB8C-46A2-8464-31CC0A6A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8F37-0793-4232-B5CF-977C1495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146EE-3FA6-4DC7-B3B9-6CF9C861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AD1C-BBEA-42BA-A310-191D955D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BB57E-668C-457C-BD90-59180F1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B04F-4AED-4860-ACB2-6E142BBB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B899-29FA-42BA-912A-0F1959F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3EF6-9738-435F-900E-A4D4557E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FAB2-CCC4-43D7-9747-F22D9E6D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CBAB-DB67-4FF0-AE0E-26BA8D7F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7EE8-A0B9-44FF-97D5-86D4F14F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C5B-60CE-4F2F-8152-E4A309B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4BA3-AA96-4421-8930-5F4419CA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C8A41-6D5B-4EA1-AED8-F923DEB4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AF79-9096-47BB-8FE9-683D2C1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04166-7CCB-46FC-AF66-43B13A14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51DA-1D81-41EF-8E3F-6CEE7BF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4E47-C2A5-422F-A342-88D91875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798A-F894-49A5-8B61-C87A5F2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5AF25-B751-4844-B371-DF73858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4CFD-9F84-4780-B2E7-F89A2CD3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FF79-B522-4B43-B5A0-8C8C8FE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C27-F339-4FC7-8174-BE645F7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844B-1FD0-452F-ABE2-DA92800B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247D3-52F4-46AD-93C5-8391FEF7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AD32-9282-454E-A67A-BF3E56BC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260A-8B33-476F-82F7-08EBBEF3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209E-73E1-402F-8B92-1449EDDC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9408-356B-4858-A929-4415A14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23E1-0C16-4D99-9AAF-6C19E05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B93F-113F-402F-A493-93B4B7A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D033-AA01-4E88-A53A-47851E6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D768-0298-47D5-81C1-B64220C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F6C-FA57-41D2-820A-D80305F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C13CD-3A01-44F3-87E3-A6AB42E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BCA2-2FDB-4B0E-BF94-D2EE46F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7642-5C83-4A11-BD55-7BFC9F42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8AEE8-DEEB-4966-A9E6-61E6CBA9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20A4-499E-4E6F-850B-55AA4BE8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B29F-C6CE-4449-A414-95B5090D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D359-4650-4EF5-9B71-A992586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EA97-68E7-4FFC-9867-046A6F6C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0181-D966-4924-BDB1-00385007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2F9A2-A681-46A7-A1A3-ABF78BC4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B16-76B3-4598-8DA6-5939029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09CAE-6272-4E3F-86BF-C26BD539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64830-A657-4BB3-910A-B5A4E8F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D61B-A18B-4E98-8B59-8302E59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76C1-A740-40CB-924E-FD8D539A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8F4D1-74DA-460F-BF7E-8918E481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DCF4-1C75-4F9C-A647-C67FBD98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27B93-9E15-4972-952C-C5100D6D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8342B-A367-49EC-AD63-585E0B03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99A4-0EA3-4683-9804-0336D4D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60C2C-9EB7-465C-8FB3-1E58ED2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E02-7431-4831-9BBB-CEE849BB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4AC5-0C4B-4967-A708-E9F9FC7028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EF95-D5B8-4DD3-AFE7-3C2FE6DED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5AAB-ABE2-4DAF-BB08-F71E9BDE9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2DAA-8EF3-4578-AE20-C11DC652F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2E7-D48C-4FF4-B99B-ECEA70F69B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349D-A31D-44A4-A930-16F68D65A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DF2-104A-4E7F-BC21-5A796B3B4F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47E3-CBC4-4141-B840-35B93D7E37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94C-711E-4C9A-B166-D061B6119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497-830B-4CFE-8ECD-7682005E6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E6AF-A9DB-4C10-8143-1EA472869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D25F-D62A-40E1-B0FB-52E076C698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812E-8145-4187-9E1C-C6F65E8CB9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1137-4A4E-4BE8-84B3-FD50A2163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E121-06E3-4E0F-9C17-6D86CBF07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661-99D1-41C4-85E1-33D25307DC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057C-B438-450E-A4BF-4704C5D5B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7369-49A1-465D-B810-7E24092CB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C09-0F3C-413D-BC43-2C827DF0D9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DDE5-B829-4D13-B002-CA5B0E8BE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CFDD-DFB8-438B-AE80-8493304D5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D484-72B4-447A-9B62-A7AF8FED0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1BC-40F8-42CF-9A5C-DF5AC1A9B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3D1B-A92A-46F7-9652-9A65AAEEC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2A2-286E-48C0-B2D2-15A0E5704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461-A3D7-4364-9F23-2EDB83BA8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13C0-673B-458B-A8EF-DAD75F8A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CC4-0A69-4DD3-8216-95897F156F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AFBA-7B8E-445B-A93B-D45ED81FB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165-9AB2-4273-B27E-9134F196E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7B58-702A-45CA-B882-79ED455E1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F7A-63EB-43C0-B1FC-494DDFD5C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D743-EE9D-409B-8946-B0BAD073E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1F7-9346-4872-AAB5-84037387A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1EF5-C42B-492B-B3EB-EDBBAC291F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4C4-9F35-492D-A9D3-AF4B9221F0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CA8-1204-4096-8D2E-3A4ACCE3C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F4E-EC3B-48D7-9A30-749B021DA1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3FB-14CC-4975-843F-0F8B04A584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152880"/>
            <a:ext cx="83581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47560" y="1000080"/>
            <a:ext cx="8048880" cy="5515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692360" y="363852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692360" y="4214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63640" y="479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692360" y="5438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1692360" y="6086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8077320" cy="6000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1836720" y="1484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1835280" y="27036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1835280" y="39276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1835280" y="572760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115480" cy="5286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1763640" y="5445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09760" y="1000080"/>
            <a:ext cx="8124480" cy="5505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1835280" y="219852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5292720" y="5918040"/>
            <a:ext cx="2232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933480" y="833400"/>
            <a:ext cx="7277040" cy="5953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2"/>
          <a:stretch/>
        </p:blipFill>
        <p:spPr>
          <a:xfrm>
            <a:off x="4788000" y="1855800"/>
            <a:ext cx="22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4859280" y="4235400"/>
            <a:ext cx="22338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4"/>
          <a:stretch/>
        </p:blipFill>
        <p:spPr>
          <a:xfrm>
            <a:off x="4932360" y="6283440"/>
            <a:ext cx="251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409680" y="714240"/>
            <a:ext cx="8324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843120" y="1409760"/>
            <a:ext cx="7457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776160" y="1123920"/>
            <a:ext cx="7591680" cy="53053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1258920" y="176688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4"/>
          <a:stretch/>
        </p:blipFill>
        <p:spPr>
          <a:xfrm>
            <a:off x="1258920" y="314496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5"/>
          <a:stretch/>
        </p:blipFill>
        <p:spPr>
          <a:xfrm>
            <a:off x="1258920" y="3854520"/>
            <a:ext cx="43344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6"/>
          <a:stretch/>
        </p:blipFill>
        <p:spPr>
          <a:xfrm>
            <a:off x="1258920" y="515772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16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